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22C9-5C53-4982-A70F-ED062DD18C6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南北朝时期全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F86-AC66-414F-B2FC-C93A8D53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DA6-8998-4C35-8D24-D046BD6B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C4B4-193D-433D-BBCF-9E69879C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6667-866E-42AC-8A79-981F9D28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E70E-77B5-4F24-89EB-F639A6CB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1135-5A96-491C-BC31-1F3A6684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1A19-8233-448F-A92B-A3DABBF1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CABD-3D93-4C18-99E0-115B18D2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7D14-1DA5-4A47-8856-D432D4E9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59A0-2F19-46AD-819B-2612E076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DBA6-48C7-43C0-AC0C-9EC8DD0F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A74-B33E-4440-88C6-091E0806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25F0-F252-40E0-9DB2-CF3540DE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6C40-E3A6-442D-8342-A922FF2F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E67D-E59A-40E6-9BC3-23130830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8865-3FFF-49C8-B1C3-34B19FE0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7406-08CB-4770-8BFA-20E1F85A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80C0-B476-42D3-B963-45D3591E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AFD-9B8D-452B-966F-CC463309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F0D-737C-4965-B865-EB2A9539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C1E-69C3-4399-A283-1923EC8D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CD3C-595B-4763-BD9D-C5340FE2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B0A8-22B5-49DD-BE0E-DB98D3B2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1B3-9A8C-4A12-9F59-2BFE016C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FB97-C5EC-46A1-8111-B64E71E0E5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DC74-FA98-4314-AEE9-FD5F92249E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彩云"/>
                <a:ea typeface="华文彩云"/>
              </a:rPr>
              <a:t>第 </a:t>
            </a:r>
            <a:r>
              <a:rPr b="1" lang="en-US" sz="8000" spc="-1" strike="noStrike">
                <a:solidFill>
                  <a:srgbClr val="ff0000"/>
                </a:solidFill>
                <a:latin typeface="华文彩云"/>
                <a:ea typeface="华文彩云"/>
              </a:rPr>
              <a:t>20 </a:t>
            </a:r>
            <a:r>
              <a:rPr b="1" lang="zh-CN" sz="8000" spc="-1" strike="noStrike">
                <a:solidFill>
                  <a:srgbClr val="ff0000"/>
                </a:solidFill>
                <a:latin typeface="华文彩云"/>
                <a:ea typeface="华文彩云"/>
              </a:rPr>
              <a:t>课</a:t>
            </a:r>
            <a:br>
              <a:rPr sz="8000"/>
            </a:br>
            <a:r>
              <a:rPr b="1" lang="zh-CN" sz="8000" spc="-1" strike="noStrike">
                <a:solidFill>
                  <a:srgbClr val="ff0000"/>
                </a:solidFill>
                <a:latin typeface="华文彩云"/>
                <a:ea typeface="华文彩云"/>
              </a:rPr>
              <a:t>北方民族大融合</a:t>
            </a:r>
            <a:endParaRPr b="0" lang="en-US" sz="8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练习：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找一找：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在今天的日常生活中汉族和少数民族互相影响的现象有哪些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98440" y="-5280120"/>
            <a:ext cx="169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7451640" cy="685800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44320" y="-704880"/>
            <a:ext cx="911520" cy="75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鲜卑旧墟石室嘎仙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7236000" cy="68580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99600" y="2346840"/>
            <a:ext cx="911520" cy="42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北魏骑兵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98080" y="-5280120"/>
            <a:ext cx="96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2737080" cy="685800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2847600" y="1506960"/>
            <a:ext cx="91152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陶风帽俑（北魏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39960" y="1506960"/>
            <a:ext cx="91152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陶笼冠俑（北魏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鲜卑姓氏改为汉姓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395280" y="1916280"/>
          <a:ext cx="8299440" cy="3697200"/>
        </p:xfrm>
        <a:graphic>
          <a:graphicData uri="http://schemas.openxmlformats.org/drawingml/2006/table">
            <a:tbl>
              <a:tblPr/>
              <a:tblGrid>
                <a:gridCol w="2251080"/>
                <a:gridCol w="1871640"/>
                <a:gridCol w="2286000"/>
                <a:gridCol w="1890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鲜卑姓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汉 姓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鲜卑姓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汉 姓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拓   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贺  赖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93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丘墓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穆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独  孤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刘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步六狐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陆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贺  楼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楼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5690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（孝文帝）诏不得以北俗之语言与朝廷，若有违者，免所居官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——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魏书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440" y="-419400"/>
            <a:ext cx="31528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4360" y="620280"/>
            <a:ext cx="79912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中国朝代演进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夏商与西周，东周分两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春秋与战国，一统秦两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三分魏蜀吴，二晋前后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南北朝并立，隋唐五代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宋元明清后，皇朝至此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250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一、北方的统一和民族</a:t>
            </a:r>
            <a:br>
              <a:rPr sz="6000"/>
            </a:b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        融合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687564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、鲜卑族建立北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90080" y="2708280"/>
            <a:ext cx="418248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）</a:t>
            </a:r>
            <a:r>
              <a:rPr b="0" lang="zh-CN" sz="54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鲜卑族的崛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71640" y="386064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）北魏的建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世纪后期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0920" y="-5266800"/>
            <a:ext cx="3603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0728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0" lang="zh-CN" sz="54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北魏统一黄河流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720520" y="1125360"/>
            <a:ext cx="400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时间：公元</a:t>
            </a: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439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7560" y="4005360"/>
            <a:ext cx="1826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表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30520" y="1989000"/>
            <a:ext cx="460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宋体"/>
              </a:rPr>
              <a:t>3</a:t>
            </a:r>
            <a:r>
              <a:rPr b="1" lang="zh-CN" sz="5400" spc="-1" strike="noStrike">
                <a:solidFill>
                  <a:srgbClr val="000099"/>
                </a:solidFill>
                <a:latin typeface="宋体"/>
              </a:rPr>
              <a:t>、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北方民族融合趋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cc"/>
                </a:solidFill>
                <a:latin typeface="Times New Roman"/>
              </a:rPr>
              <a:t>　　　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的加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43480" y="3867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84360" y="378936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cc"/>
                </a:solidFill>
                <a:latin typeface="Times New Roman"/>
              </a:rPr>
              <a:t>生产技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556000" y="4797360"/>
            <a:ext cx="30240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66cc"/>
                </a:solidFill>
                <a:uFillTx/>
                <a:latin typeface="Times New Roman"/>
                <a:hlinkClick r:id="rId2" action="ppaction://hlinksldjump"/>
              </a:rPr>
              <a:t>生活习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124000" y="3933720"/>
            <a:ext cx="144360" cy="1728720"/>
          </a:xfrm>
          <a:custGeom>
            <a:avLst/>
            <a:gdLst>
              <a:gd name="textAreaLeft" fmla="*/ 92160 w 144360"/>
              <a:gd name="textAreaRight" fmla="*/ 144360 w 144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二、北魏孝文帝迁都洛阳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5240" y="305316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原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87200" y="198900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平城气候干旱，农业不发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90240" y="2708280"/>
            <a:ext cx="45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地理位置偏北，不利于北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统治中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908080" y="414972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保守势力大，不利于改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32400" y="486900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北方柔然的进攻威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42920" y="2133720"/>
            <a:ext cx="216000" cy="360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08360" y="12682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494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年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854064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三、北魏孝文帝的改革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、孝文帝迁都后的改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971640" y="2205000"/>
            <a:ext cx="60483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学说汉语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，改穿汉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042920" y="3213000"/>
            <a:ext cx="633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改用汉姓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，与汉通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42920" y="4221000"/>
            <a:ext cx="66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实行汉制，学习汉礼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26920" y="2565360"/>
            <a:ext cx="73080" cy="2232000"/>
          </a:xfrm>
          <a:custGeom>
            <a:avLst/>
            <a:gdLst>
              <a:gd name="textAreaLeft" fmla="*/ 46800 w 73080"/>
              <a:gd name="textAreaRight" fmla="*/ 73440 w 730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98440" y="-712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475920"/>
            <a:ext cx="85122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66"/>
                </a:solidFill>
                <a:latin typeface="Arial"/>
              </a:rPr>
              <a:t>、北朝的演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0920" y="328464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北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627280" y="2565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东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56000" y="41497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西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16360" y="263700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北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0" y="422100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北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84360" y="2997360"/>
            <a:ext cx="142920" cy="1657080"/>
          </a:xfrm>
          <a:custGeom>
            <a:avLst/>
            <a:gdLst>
              <a:gd name="textAreaLeft" fmla="*/ 42120 w 142920"/>
              <a:gd name="textAreaRight" fmla="*/ 143280 w 142920"/>
              <a:gd name="textAreaTop" fmla="*/ 68760 h 1657080"/>
              <a:gd name="textAreaBottom" fmla="*/ 158832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92360" y="3789360"/>
            <a:ext cx="718920" cy="71280"/>
          </a:xfrm>
          <a:prstGeom prst="rightArrow">
            <a:avLst>
              <a:gd name="adj1" fmla="val 50000"/>
              <a:gd name="adj2" fmla="val 2521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95640" y="2997360"/>
            <a:ext cx="719280" cy="72720"/>
          </a:xfrm>
          <a:prstGeom prst="rightArrow">
            <a:avLst>
              <a:gd name="adj1" fmla="val 50000"/>
              <a:gd name="adj2" fmla="val 24727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24360" y="4653000"/>
            <a:ext cx="718920" cy="71280"/>
          </a:xfrm>
          <a:prstGeom prst="rightArrow">
            <a:avLst>
              <a:gd name="adj1" fmla="val 50000"/>
              <a:gd name="adj2" fmla="val 2521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08720" y="3500280"/>
            <a:ext cx="71280" cy="719280"/>
          </a:xfrm>
          <a:prstGeom prst="downArrow">
            <a:avLst>
              <a:gd name="adj1" fmla="val 50000"/>
              <a:gd name="adj2" fmla="val 25227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</a:rPr>
              <a:t>小结：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-393480" y="1125360"/>
            <a:ext cx="1642680" cy="5183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各族人民长期接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22880" y="1413000"/>
            <a:ext cx="1642680" cy="4608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民族融合的趋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67600" y="1413000"/>
            <a:ext cx="1642680" cy="4608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北魏政府的改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0" y="6742080"/>
            <a:ext cx="91440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83600" y="476280"/>
            <a:ext cx="1642680" cy="2717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迁都洛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654880" y="4076640"/>
            <a:ext cx="1642680" cy="2781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改革措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10880" y="4005360"/>
            <a:ext cx="1642680" cy="28526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民族融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258920" y="3284640"/>
            <a:ext cx="1009440" cy="649080"/>
          </a:xfrm>
          <a:prstGeom prst="rightArrow">
            <a:avLst>
              <a:gd name="adj1" fmla="val 50000"/>
              <a:gd name="adj2" fmla="val 3888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48000" y="3284640"/>
            <a:ext cx="934920" cy="649080"/>
          </a:xfrm>
          <a:prstGeom prst="rightArrow">
            <a:avLst>
              <a:gd name="adj1" fmla="val 50000"/>
              <a:gd name="adj2" fmla="val 36009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8100000">
            <a:off x="5218920" y="2924280"/>
            <a:ext cx="1366920" cy="1366560"/>
          </a:xfrm>
          <a:custGeom>
            <a:avLst/>
            <a:gdLst>
              <a:gd name="textAreaLeft" fmla="*/ 392400 w 1366920"/>
              <a:gd name="textAreaRight" fmla="*/ 1170720 w 1366920"/>
              <a:gd name="textAreaTop" fmla="*/ 786960 h 1366560"/>
              <a:gd name="textAreaBottom" fmla="*/ 1170720 h 1366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16720" y="3284640"/>
            <a:ext cx="504720" cy="720720"/>
          </a:xfrm>
          <a:prstGeom prst="downArrow">
            <a:avLst>
              <a:gd name="adj1" fmla="val 50000"/>
              <a:gd name="adj2" fmla="val 35699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80360" y="5157720"/>
            <a:ext cx="649080" cy="43200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28600" y="-6424920"/>
            <a:ext cx="69840" cy="132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0" y="6788160"/>
            <a:ext cx="91440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-596160" y="2708280"/>
            <a:ext cx="1399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东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97360" y="934920"/>
            <a:ext cx="45864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81360" y="1079640"/>
            <a:ext cx="4590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42920" y="2205000"/>
            <a:ext cx="73080" cy="2232000"/>
          </a:xfrm>
          <a:custGeom>
            <a:avLst/>
            <a:gdLst>
              <a:gd name="textAreaLeft" fmla="*/ 21240 w 73080"/>
              <a:gd name="textAreaRight" fmla="*/ 73440 w 73080"/>
              <a:gd name="textAreaTop" fmla="*/ 92880 h 2232000"/>
              <a:gd name="textAreaBottom" fmla="*/ 213912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62880" y="1819080"/>
            <a:ext cx="7898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262880" y="2971800"/>
            <a:ext cx="7898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58920" y="4076640"/>
            <a:ext cx="59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445400" y="1700280"/>
            <a:ext cx="13993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西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42480" y="189000"/>
            <a:ext cx="13993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十六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42480" y="3645000"/>
            <a:ext cx="13993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东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750480" y="476280"/>
            <a:ext cx="13993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北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045760" y="0"/>
            <a:ext cx="13993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东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045760" y="1341360"/>
            <a:ext cx="1399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西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116000" y="2205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4360" y="3357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116000" y="4437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42920" y="3357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835280" y="2276640"/>
            <a:ext cx="2872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700360" y="2276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1619280" y="2491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63640" y="4437000"/>
            <a:ext cx="64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2411280" y="270828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987640" y="981000"/>
            <a:ext cx="0" cy="313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87640" y="98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87640" y="407664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95640" y="98100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003640" y="1052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35640" y="620640"/>
            <a:ext cx="0" cy="12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35640" y="1844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35640" y="620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300720" y="620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227640" y="1844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911200" y="0"/>
            <a:ext cx="13993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北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838120" y="1341360"/>
            <a:ext cx="1399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北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599960" y="1557360"/>
            <a:ext cx="78984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093080" y="1916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288680" y="3716280"/>
            <a:ext cx="7898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076720" y="3645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44400" y="364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36760" y="364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148360" y="46530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南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995640" y="4076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859280" y="4076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16720" y="4076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724360" y="4076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643280" y="4292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3280" y="4724280"/>
            <a:ext cx="23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7020000" y="4221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308720" y="407664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7956720" y="2133360"/>
            <a:ext cx="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77080" y="981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788000" y="285264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076720" y="28526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北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4788000" y="1988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6877080" y="2420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1-10T11:33:17Z</dcterms:modified>
  <cp:revision>29</cp:revision>
  <dc:subject/>
  <dc:title>第 20 课 北方民族大融合</dc:title>
</cp:coreProperties>
</file>